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C3E-5065-4134-AA90-8027F456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03E-1D5F-4CCA-8FD2-94CD68C1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83216-14BB-4562-8D25-578B249D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87A9D-1EB9-4BB1-AE85-CCD3FC4D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BF9B3-45D8-464A-95FE-A79930DE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274D6-D8D7-4121-848B-ADBF535D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1A017-0D0C-405A-AEB2-8DF9EA9B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59116-66D5-41B7-AA5B-AC5FD4BA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4EC1C-3C15-4F0D-8E2D-D4A39841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646CC-7F0C-4A31-98E3-D71C3B92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3B7BC-B93D-4D88-B677-7F925456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82574-7C05-4AF1-A202-A0E3C7C7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486-EB26-403F-91EF-63A7B488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41542-AB14-4B1F-B2D9-ABF6EB75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D2881-32DC-487D-A375-DBA4BD6D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01496-53FA-4717-B7FD-18302A60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A3361-9EB4-4790-BD15-90DCD562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16CDD-52C9-4146-BA6F-58134E16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110B5-BFE1-4512-A9E9-22BD73AB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7839E-2092-4480-BACF-21C162C4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F07BF-91E8-4321-8E0E-1FFDC6E3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3B30C-F25B-49C5-852B-A5032D2A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32504-0ED0-430C-9CB1-8DE7F2D3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349-AD02-48D5-967F-EE0C977E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E57C9-7F59-4EC6-89E5-1C6E40D3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EA7EFD-E1C9-467A-B10C-1CB2B1EC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CE5DD7-53BD-44F5-B1DF-8A5494B9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19CE37-B566-4D32-BD82-F12D58D1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7D2CAC-C626-4411-B089-452A1D5F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0250D2-B09F-46EC-AE5D-E4516D2A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1BA601-33A7-4CE8-B99C-9AC065F8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BFA003-F9EB-4E07-9D35-496AB9D1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104E07-006D-43D7-B64B-56680949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2C9001-B0C0-4F0B-848C-2D68A23B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9464-8B83-4ED2-833D-9CAA08B0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64F315-360F-48CA-992A-CFE5F086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23CB0C-5491-4616-B13F-B76A555A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FE4A3D-112F-44D5-A1E3-8DEC9F45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C992D-FD53-4774-BD1B-4F4A4A21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E6C4C-7061-4037-B317-F642B7BD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DAFA0-8D85-4932-A40E-767E6B5C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BA7AF-2257-4E7C-A5CB-22C49A77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EE9AB-489E-40DB-83A8-7AACF83A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66BC9-1EAB-43E6-91DB-EC99AB93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76392-6D0A-4CCE-B4C3-C4F6F6A5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1A4D-7B9E-47F1-9807-8CA0EED2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DB47E-B427-4A7C-92C7-9F2F5C9C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6ABB0-A691-4764-9AB2-C2C367FE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4870E-75A1-42B9-A684-FE329D11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B44D2-B5A6-4B49-9A04-7C53BD46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6F01F-9DCB-4BA6-B25C-3505B401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A651-EEAC-4D58-8C68-84540704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20E9-40E4-429D-A01A-7D9AF62A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C044-3835-4B14-8561-384C3088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8DCB-D26D-4319-9DC1-7E4AA9ED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5D69-CECA-42F7-9A20-8355D9AF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110-7843-4020-953C-3757B7C0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1F2B-7C79-4172-94AC-BED594E1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6AA4-C44B-4F80-885E-3698558C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8FD7-6CBB-401A-A3D2-E61D3C3F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9F35-EE45-4256-8003-5135683A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9FB3-C47B-42E4-959A-C4447EB8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D21C5-6ADA-48EF-97DC-98C96AF8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6F6F8-62EF-411C-ACE3-9FDB5D65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61A1-352D-40EF-BBBF-40D2F0D4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8871E-767D-40D5-AF4E-C2DA03AB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C859D-B102-4CFE-9BE9-4ABBDB60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AF2-DC66-4270-95CF-944365B1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2FB91-73A4-401B-8555-59DB333A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3D03C-6C07-4B11-955C-5E572850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CB923-5CF5-444D-829F-DB0D6B89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DE0EE-18BD-4D66-B130-414078AA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A4381-CBC4-40FE-8CD2-FCB5A084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9B739-12D4-437C-BE8F-64544CBE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48529-870C-486B-BB47-F3662F4A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E15BF-E555-48F3-8046-28ED58DE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A31216-1070-46BC-AAB7-E53A98E7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4CA0E-B59B-4F67-B017-DC427557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608-E1E8-4100-8924-6D3B2C89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64110A-BF4F-42A4-809B-96660CE2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9B1DA-F1E1-404E-919D-E0CBC954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B05E0F-105A-474C-AF19-E92577E9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82413B-9F98-4508-BDDB-0C41F2A4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46319E-98D3-435F-B948-DB8266CF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73138C-53EF-4553-ADFB-E574B309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1E08E-71D3-4A67-B8A5-04924E71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4FDC6-9651-4093-A20F-59D7C05E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F6A9F9-E201-437F-BB84-EEC461A1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D09C5-E4AE-4056-B1CA-DA83DE94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60A-1419-4F1C-831B-A913E9FE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E9D5E-4C14-4B7C-B9FA-808FB023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AD971-3175-4FD3-825F-574D73EE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FA5CA-3DC0-4508-81BF-6C780C11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C8B03-A7D5-42FE-B160-9FFB2A9D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478CC-E95B-424F-ABDA-9516E87D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69C12-D450-41D6-9261-C85F1CB9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5B530-1A00-4D43-AC34-2FEB4EF7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06A37-A3DE-474C-A413-ACDA9618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20924-193E-4144-A2B0-E4B4EA89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875FD-E948-422F-996A-5BAF9AB8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773-D0A6-461B-9B3A-EC9B454D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32FE2-AE7A-44F7-B1BA-16487742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2EC3D-7AD9-4FE6-9753-BCBE2B4E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DCA23-F1CC-40B3-B2A0-742B3CBC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24F5C-E6DB-41EB-9D90-E05A5120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CF67B-988C-4F76-8177-3641F9E3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5C771-F199-4893-8E45-AD0A962C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F36FC-99ED-4D4E-8957-2F8F3ABC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C6103-5BAF-4CBE-8551-C6EF0731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BF2C8-D802-41B4-B04B-9C2F8024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FC73A-E2FC-4BFF-B9C7-DF9FD6A6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4FA-56D0-4667-AD86-B4A6CF22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A853F-B250-4B52-AF44-1630F2D1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14E3C-C605-4F02-8BF2-EBFC65E7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C3DF8-3AF8-4624-9693-A14A19C5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8E05E-2DAA-4D49-B193-13FE13E1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003DC-6C1C-481B-8AA8-43DABC32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8658B-E92A-47E9-BB5C-81EE2BCB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89A8C-7881-42B9-A732-D80BAC3F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3D467-9E8A-4AA7-90D1-07FAD5CF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32B1B-6640-418C-B26C-903F98E8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2500B-7F3E-4CF6-A2FF-A05E0C65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483F-885D-4CD2-BF2E-9BC34D7C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66A15-7969-400C-8CE3-1864FD66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2AECB-9CC2-44FF-B613-1AC5E769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FB55D-050C-4DB0-BBF4-F190F8F6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F2093-D33D-4504-A6FC-13B04A85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3FD2E-D290-4DEC-8F0D-56C6C859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65773-E651-48D1-B221-7ED10595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D3651-DFEC-452E-8BB7-E6668E9E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0C47A-2FFC-4995-9728-4D5B86A0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9EF11-0857-4AB0-AAE7-7B9C72B7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A658F-55F5-4D02-8494-D4C9928F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284-8E8A-48F6-A689-5686B01C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B4C93-D065-43CD-937F-04C99476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626BD-CD9B-4868-8B4B-DD8FEE7F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76242-4C00-42A3-9AAA-8ED66F93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DC2FE-FE20-4EBF-A332-D2478336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E4DC7-5738-4BEE-9891-FEE154F4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EA9FC-BB54-4099-B590-8D3D9793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1F00D-48ED-440E-AA26-D6356A5A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AEDA1-A07D-47BF-97D1-159A787B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14859-4570-4157-8BAE-9C2C5736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3F786-863C-49DE-93F6-B44031EF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8877-AB97-425D-886D-3E4457BC85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1812-8729-4913-950E-C33079653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DF53-C2C8-417F-BB80-FEB7F0E530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7594-46BD-4BCB-9977-4BC74206BE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1B00-BBB9-4082-BACE-2677B5A627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C76E-E39D-4E70-A673-1F3C2D7D33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06B5-37C8-47AB-B2C2-54EDB924F7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DA7F-3037-439C-B445-BAC88C71A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7137-6D3E-4A6E-84A9-9A2615199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241F-E067-4539-AB15-26E38B2AEF5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481C-8880-41C9-80E5-10F8DB4BD1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4FE9-F5D0-4744-866E-4ADBA12E5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7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2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11280" y="1484280"/>
            <a:ext cx="7777080" cy="4032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ре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ужны ли нам стресс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обходим, чтобы достичь пика в работ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двигатель прогресса в нашей жи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 каждого индивидуума свой пик продуктив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то нужно делать чтобы не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ишли к моральному срыв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алансировать свои нуж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бота о себе и других в хорошем баланс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ды стрес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оложи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свадьба, рождение ребенка, выбор профессии, любов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Отрица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агрузка на работе, болезни, ссоры, финансовые и  семейные проблемы, смерть близких, страх, опасность, плохая окружающая сре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97000"/>
            <a:ext cx="83851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ффекты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5280" y="836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РЕАКЦИЯ ОРГАНИЗМА НА ВНЕЗАПНЫЙ СТР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ий: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4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оральный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забывч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сосредоточ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дражение , па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ложность принятия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бит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оча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сихически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торванность от об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выслушать друг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контролируемое время раз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щет ш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фокусировка на отрицательном эффек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сдержанности в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Духовны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еряют цель и смысл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окружа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Б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611280" y="155736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предупредить стрес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8033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560" y="2166840"/>
            <a:ext cx="8762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остояние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озникающее при действии чрезвычайных или патолог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раздражителей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 приводящих к напряжению неспециф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адаптационны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механизмов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рганизм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83880"/>
            <a:ext cx="79246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АЗУМНОЕ ПРИСПОСОБЛЕ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12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e5ff"/>
                </a:solidFill>
                <a:latin typeface="Garamond"/>
              </a:rPr>
              <a:t>ЗДОРОВЫЙ ОБРАЗ </a:t>
            </a:r>
            <a:r>
              <a:rPr b="0" lang="en-US" sz="5000" spc="-1" strike="noStrike">
                <a:solidFill>
                  <a:srgbClr val="e5e5ff"/>
                </a:solidFill>
                <a:latin typeface="Garamond"/>
              </a:rPr>
              <a:t>ЖИЗНИ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ЛАНИРОВА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 БЕСПОКОЙТЕСЬ О БУДУЩ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240" y="168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ЫШ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УШЕВНЫЙ ПОКОЙ И ИСЦ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ОМОЩЬ ДРУГИМ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ДОВЕРИЕ БОГ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ИСТОС В СЕРД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95280" y="2492280"/>
            <a:ext cx="8352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тресс = стрессор + реакц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132000" y="4221000"/>
            <a:ext cx="48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%                                                     90%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СЕМЬ КЛЮЧЕЙ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Стресс – это не то, что случается с нами, а то, как мы реагируем на это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тревоги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билизация исходных си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резистентности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опротивл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знание и борьба с н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стощ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дром приобретает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огенный характ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619280" y="620640"/>
            <a:ext cx="64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ий адаптационный синдро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6044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ДИИ СТ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ределяется реактивностью орган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еактивность зависит о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наследственных свойст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ранее перенесенных воздейств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озрас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692360" y="404640"/>
            <a:ext cx="655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рактер стрес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сход стресс-реак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врат к первоначальному состоянию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никновение боле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ОЛЕЗНИ СВЯЗАННЫЕ СО СТРЕСС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05:29:31Z</dcterms:created>
  <dc:creator>cb</dc:creator>
  <dc:description/>
  <dc:language>en-US</dc:language>
  <cp:lastModifiedBy>cb</cp:lastModifiedBy>
  <dcterms:modified xsi:type="dcterms:W3CDTF">2006-03-19T18:34:47Z</dcterms:modified>
  <cp:revision>13</cp:revision>
  <dc:subject/>
  <dc:title>Стресс</dc:title>
</cp:coreProperties>
</file>